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commons.wikimedia.org/wiki/File:1700s_ladys_stay_man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encarta.msn.com/media_461577946_761585452_-1_1/middle-class_fashion_mid-1700s.html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encarta.msn.com/media_461577946_761585452_-1_1/middle-class_fashion_mid-1700s.html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www.bridgemanart.com/thumbnails/web400wm/245/245484.jpg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www.bbc.co.uk/radio4/womanshour/timeline/galleries/421/1/" TargetMode="External"/><Relationship Id="rId12" Type="http://schemas.openxmlformats.org/officeDocument/2006/relationships/image" Target="../media/image2.png"/><Relationship Id="rId13" Type="http://schemas.openxmlformats.org/officeDocument/2006/relationships/hyperlink" Target="http://theologyandfreedom.blogspot.com/" TargetMode="External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ynchro LET"/>
                <a:ea typeface="Synchro LET"/>
              </a:rPr>
              <a:t>Gender Inequality in the U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nchro LET"/>
                <a:ea typeface="Synchro LET"/>
              </a:rPr>
              <a:t>By Sunnah Baek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Gender Inequality in Educatio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omen were not allowed to attend college with men until 1832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hen they were finally admitted, they had to remain silent at public assemblies, do the men students’ laundry, clean their rooms, and serve them their meal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omen were thought to be less qualified for higher education because their female organs dominated their mind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y 1900, 1/3 of college students were wome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w, 56% of college students are wome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Gender Inequality in Everyday Lif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General Devaluation of Things Feminin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higher value is placed on things considered masculine, for masculinity symbolizes strength and success. In contrast, femininity is devalued, for it is perceived as representing weakness and lack of accomplishmen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 WW11, to motivate their men, officers used feminine terms as insults. For example, “Whatsa matter, Bud-got lace on your drawers?” or “Can’t hack it, little girl?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se insults represent a devaluation of fema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71680" y="2844720"/>
            <a:ext cx="120139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halkboard"/>
                <a:hlinkClick r:id="rId3"/>
              </a:rPr>
              <a:t>http://commons.wikimedia.org/wiki/File:1700s_ladys_stay_man.gif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halkboard"/>
                <a:hlinkClick r:id="rId5"/>
              </a:rPr>
              <a:t>http://encarta.msn.com/media_461577946_761585452_-1_1/middle-class_fashion_mid-1700s.html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halkboard"/>
                <a:hlinkClick r:id="rId7"/>
              </a:rPr>
              <a:t>http://www.jadedcompass.com/ocular_helmsman/attire/index.htm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halkboard"/>
                <a:hlinkClick r:id="rId9"/>
              </a:rPr>
              <a:t>http://www.bridgemanart.com/thumbnails/web400wm/245/245484.jpg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halkboard"/>
                <a:hlinkClick r:id="rId11"/>
              </a:rPr>
              <a:t>http://www.bbc.co.uk/radio4/womanshour/timeline/galleries/421/1/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halkboard"/>
                <a:hlinkClick r:id="rId13"/>
              </a:rPr>
              <a:t>http://theologyandfreedom.blogspot.com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halkboard"/>
              </a:rPr>
              <a:t>http://www.culturebuster.com/excerpts.php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hanging Role of Wome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67920" y="3098880"/>
            <a:ext cx="12255480" cy="660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1700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8712360" y="4521240"/>
            <a:ext cx="3784320" cy="4317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317600" y="4457880"/>
            <a:ext cx="7315200" cy="44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 husband &amp; wife =&gt; legally one person, HI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85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women could not vote, buy property in their own name, make legal contracts, or serve on juri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85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 traditional task for women : sewing, gardening, and caring for childre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 In the hospital department for the Army, women who worked as nurses were payed 25 cents a day &amp; sewing was one of their duties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197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hanging Role of Wome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45760" y="2577600"/>
            <a:ext cx="11912760" cy="713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1800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"/>
          <p:cNvSpPr/>
          <p:nvPr/>
        </p:nvSpPr>
        <p:spPr>
          <a:xfrm>
            <a:off x="1863720" y="3645000"/>
            <a:ext cx="621036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 until the mid-1800s, women surrendered their property rights when they marri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 Women were not permitted to give evidence in court, nor, did they have the right to speak in public before an audienc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 Clothing style : women often wore a corset made from whale bone, and a hoop skirt or crinoline with tubes made from ste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59"/>
                </a:solidFill>
                <a:latin typeface="Chalkboard"/>
                <a:ea typeface="Chalkboard"/>
              </a:rPr>
              <a:t>**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 In 1848, Married Women’s Property Act was passed, allowing women to own property separate from their husband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8402760" y="3174840"/>
            <a:ext cx="3357360" cy="636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19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hanging Role of Wome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58720" y="2387160"/>
            <a:ext cx="1186200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1900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"/>
          <p:cNvSpPr/>
          <p:nvPr/>
        </p:nvSpPr>
        <p:spPr>
          <a:xfrm>
            <a:off x="1533600" y="3708360"/>
            <a:ext cx="62737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 In 1920s, three quarters of state legislatures ratify the 19th Amendment, giving U.S. women full voting righ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Women are granted full military rank in WW11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 In 1960s, women challenged their assigned sex role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 In 1964, the Civil Rights Act was passed, barring discrimination in voting, education, and employment on the basis of race or sex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8064360" y="2857680"/>
            <a:ext cx="4280040" cy="32302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8026560" y="627696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Rise of Feminism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eminism : the philosophy that men and women should be politically, economically, and socially equa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 1916, found National Women’s Part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eaders of National Women’s Party : Lucy Burns &amp; Alice Pau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Opposition :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en who had privilege to los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omen who accepted their status as morally correc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Rise of Feminism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36200" y="2832120"/>
            <a:ext cx="104648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rst Wav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"/>
          <p:cNvSpPr/>
          <p:nvPr/>
        </p:nvSpPr>
        <p:spPr>
          <a:xfrm>
            <a:off x="1635120" y="3670200"/>
            <a:ext cx="617220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In 1917, women began to picket the White House. After picketing for six months, the women were arrested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Hundreds were sent to prison, including Lucy Burns and Alice Paul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8102520" y="3048120"/>
            <a:ext cx="4305240" cy="28731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120760" y="5950080"/>
            <a:ext cx="3975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Liberal Branch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wanted to reform all the institutions of societ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"/>
          <p:cNvSpPr/>
          <p:nvPr/>
        </p:nvSpPr>
        <p:spPr>
          <a:xfrm>
            <a:off x="7502400" y="5950080"/>
            <a:ext cx="39369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59"/>
                </a:solidFill>
                <a:latin typeface="Chalkboard"/>
                <a:ea typeface="Chalkboard"/>
              </a:rPr>
              <a:t>Conservative Branch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59"/>
                </a:solidFill>
                <a:latin typeface="Chalkboard"/>
                <a:ea typeface="Chalkboard"/>
              </a:rPr>
              <a:t>only concern was to win the vote for wome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"/>
          <p:cNvSpPr/>
          <p:nvPr/>
        </p:nvSpPr>
        <p:spPr>
          <a:xfrm>
            <a:off x="2081880" y="8052840"/>
            <a:ext cx="9384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after the right to vote was won, the movement basically dissolv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19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Rise of Feminism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57480" y="2349000"/>
            <a:ext cx="10464480" cy="7277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Wav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"/>
          <p:cNvSpPr/>
          <p:nvPr/>
        </p:nvSpPr>
        <p:spPr>
          <a:xfrm>
            <a:off x="1946160" y="3378240"/>
            <a:ext cx="9118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 began in the 1960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 women’s point of view about their jobs changed from “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halkboard"/>
                <a:ea typeface="Chalkboard"/>
              </a:rPr>
              <a:t>temporary activity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 intended to fill the time between completing school and getting married” to “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halkboard"/>
                <a:ea typeface="Chalkboard"/>
              </a:rPr>
              <a:t>career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=&gt; started to compare their working conditions with those of me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➠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Goals of Second Wave :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85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* ranges from raising women’s pay to changing policies on violence against wome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85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* equality in job opportunities and pa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Rise of Feminism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15189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4" marL="41940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Third Wav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41940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Greater Focus on the problems of women in the Least Industrialized Nation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41940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criticism of the values that dominate work and societ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41940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some argue that competition, toughness, calloused emotions, and independence represent “male” qualities and need to be replaced with cooperation, connection, openness, and interdependenc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7"/>
          <a:stretch/>
        </p:blipFill>
        <p:spPr>
          <a:xfrm>
            <a:off x="330120" y="3479760"/>
            <a:ext cx="4660920" cy="46735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220840" y="8312040"/>
            <a:ext cx="77850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emoval of impediments to women’s love and sexual pleasur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Gender Inequality in 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Health Car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651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of 2300 coronary bypass patients, 4.6 percent of the women died as a result of surgery, compared with 2.6 percent of the me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intended sexual discriminatio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hysicians had not taken the chest pains of their women patients as seriously as they took the complaints of their men patient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en times more likely to give men exercise stress tests and radioactive heart scan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y also sent men to surgery on the basis of abnormal stress tests but waited until women showed clear-cut symptoms of heart disease before sending them to surger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